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804-43AD-41A4-9703-3D0ED06F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6E9-02B0-41E4-AF09-F4B1CB77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2B1-8DEA-4C6E-954A-12C3DAF7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500-1720-4098-B67A-06863B3B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191-46ED-40FB-BD1C-0F83E361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4D9-515D-4855-B342-84A53C86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2EE-CBB2-4914-ADF1-39348D19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D79-5283-4921-BA89-6D6B2D47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EBA6-3AD4-4356-B124-0DE06524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CDC-F244-43FE-9B20-6D94DC8A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373-0966-46A5-9958-EE4DDE6C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673-6787-4EE0-A355-06C29361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22AF-289D-42BF-9F1B-BD2C51DB0B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8120" y="1600200"/>
            <a:ext cx="4245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alidi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e701"/>
                </a:solidFill>
                <a:latin typeface="Arial"/>
              </a:rPr>
              <a:t>ver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cis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7848720" cy="609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784872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3520" y="4343400"/>
            <a:ext cx="7772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281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7848360" cy="68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7772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7848720" cy="542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7848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2895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784872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9480" y="4038480"/>
            <a:ext cx="78487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867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0" y="5791320"/>
            <a:ext cx="15238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410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625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0:07Z</dcterms:modified>
  <cp:revision>211</cp:revision>
  <dc:subject/>
  <dc:title>Slide 1</dc:title>
</cp:coreProperties>
</file>